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58222"/>
        <c:axId val="96154500"/>
      </c:barChart>
      <c:catAx>
        <c:axId val="59658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4500"/>
        <c:crosses val="autoZero"/>
        <c:auto val="1"/>
        <c:lblAlgn val="ctr"/>
        <c:lblOffset val="100"/>
        <c:noMultiLvlLbl val="0"/>
      </c:catAx>
      <c:valAx>
        <c:axId val="96154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58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75E-2B57-4DBB-AC68-22D97D99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F2F-300D-4786-90D3-DA7D71DC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D95-AE17-4F7C-9465-93EA8139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960-4D9E-40A2-A7D3-616BE835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EED-5BA6-4A1F-81F5-0A0F295A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2AA-14D6-43A2-8B88-0D97F551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F03-0150-4029-9B36-8F68E0BB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3D7-B151-446C-9E7C-B9FD24BC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E69-31CF-41B5-BC6D-76F36FF8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E53-95F3-412B-B6C8-736ECD3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E23-C632-4009-B962-0DED963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3B3-3E21-4BEC-9F83-34E4C4A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B530-7BB6-46AE-92D6-AC3BF2251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