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45762"/>
        <c:axId val="17945154"/>
      </c:barChart>
      <c:catAx>
        <c:axId val="655457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45154"/>
        <c:crosses val="autoZero"/>
        <c:auto val="1"/>
        <c:lblAlgn val="ctr"/>
        <c:lblOffset val="100"/>
        <c:noMultiLvlLbl val="0"/>
      </c:catAx>
      <c:valAx>
        <c:axId val="179451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457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C87E-4DCD-42B9-8491-2F973197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D2F-7B1B-4ED8-A3D1-4BC24B8E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A94F-D9A2-4D55-B858-D7AC1CCB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C6F-DDFA-4C75-B90A-FEE791A4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3A7E-41E2-4DDF-8025-D8CBB6C4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8545-1609-400D-B35A-4805E275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2EF-5BEB-48FA-9171-066B28A9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FF40-3DCE-4F38-9C53-304B8ADF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239-6EC3-4DD0-8652-CF8CBE08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3F50-21CE-4D83-9486-AAED9592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4B18-D484-4878-8103-F03BF675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ACE-5CEC-4B9C-967F-0DC6D2BD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7F700-DA28-4964-98E8-2EEE6F1ED2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