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72105"/>
        <c:axId val="13160033"/>
      </c:barChart>
      <c:catAx>
        <c:axId val="964721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60033"/>
        <c:crosses val="autoZero"/>
        <c:auto val="1"/>
        <c:lblAlgn val="ctr"/>
        <c:lblOffset val="100"/>
        <c:noMultiLvlLbl val="0"/>
      </c:catAx>
      <c:valAx>
        <c:axId val="131600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721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02B-FF54-4A2E-B67E-85B5E978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BC1-EF65-4D13-BB83-D78FE67B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96F9-8344-4E8D-ABFF-53A8CD57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CE4-BBDF-4FDB-8250-1C248A54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5EE6-0A69-4AD7-9746-C2D4A729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C54-E5C4-4915-8A1D-E7701D14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F96-BD6C-404A-8304-D94FFB90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DAEA-046C-499F-860C-F6E87529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9BD-869C-4F82-AFB4-5B73EE2C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E7FD-C0BC-402D-93DD-CC85A9D4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75E-5FA5-4733-B8F3-31A52E06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FF9-53BD-4CF8-9DEC-A42D6D11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F99CB-7BE1-4D43-B069-30AB31418D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