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9056"/>
        <c:axId val="67196363"/>
      </c:barChart>
      <c:catAx>
        <c:axId val="4269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96363"/>
        <c:crosses val="autoZero"/>
        <c:auto val="1"/>
        <c:lblAlgn val="ctr"/>
        <c:lblOffset val="100"/>
        <c:noMultiLvlLbl val="0"/>
      </c:catAx>
      <c:valAx>
        <c:axId val="67196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EDC-D8AD-44ED-B15B-0A86354C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420-D0AA-49C7-82D1-669D7C9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4BF-9A98-42E1-B411-26EFB52F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702-1094-4126-88E2-09869B19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C94-520B-4237-A2FB-BC32CF4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4E3-7A1F-4554-A7A5-A9292DAC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FE2-7874-4C9F-8458-9C4126CB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CF9-1DB9-46AE-AAB4-3C641BD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75F-701F-4E0F-86AA-111DB9B7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1D8-DAB7-4A8F-A2B0-462B822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F5C-8BC6-4348-BAC3-6720D61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D90-B65B-46F4-947D-50B667B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3462D-27DF-4376-821F-EE260D2D5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