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81750"/>
        <c:axId val="52028031"/>
      </c:barChart>
      <c:catAx>
        <c:axId val="10381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8031"/>
        <c:crosses val="autoZero"/>
        <c:auto val="1"/>
        <c:lblAlgn val="ctr"/>
        <c:lblOffset val="100"/>
        <c:noMultiLvlLbl val="0"/>
      </c:catAx>
      <c:valAx>
        <c:axId val="52028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81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EE7-ED0F-4C87-987D-24F7C164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ABC-E12A-4880-B910-A0C6AAD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9E2-78C0-4794-A2BB-87568985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3AE-4505-4301-9187-A6B41FFE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B0F-D194-4AFA-AF92-2969FE3E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261-5A4E-4A40-B858-5CF8916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993-819B-41CD-9FAC-E6A67D8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843-FDFB-422E-8FFA-B8DA212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32E-DD2F-4BB4-A8CC-EBF48FA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333-8185-43D7-B92F-0B93393E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91D-B156-4C82-B468-C8D891B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3D1-C4E6-4600-BC4F-9C0F229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15353-F936-49F2-A687-CD936A1A3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