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767717"/>
        <c:axId val="69334318"/>
      </c:barChart>
      <c:catAx>
        <c:axId val="737677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334318"/>
        <c:crosses val="autoZero"/>
        <c:auto val="1"/>
        <c:lblAlgn val="ctr"/>
        <c:lblOffset val="100"/>
        <c:noMultiLvlLbl val="0"/>
      </c:catAx>
      <c:valAx>
        <c:axId val="693343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7677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E803-8901-420F-9120-8094D43D1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5BF4-6633-4AF0-8EA1-4AD3B15F0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2CD9-62C8-48A2-B60F-F82226B30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CE4F-E76F-4A70-8324-40CBAB6DD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3B51-F19A-4633-B94A-FE60789B5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0FBD-785D-4108-AD90-7B1B790EF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18A1-811D-4239-871C-A78B6FFBE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839E-DCA4-4B90-96DB-AA2C76067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9B64-08E3-4AD7-8DBB-B8EA4F507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52F6-E28D-4C3E-8476-94B77D0C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2B24-57D5-4942-935F-E06D7760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E2A6-346A-44FC-8400-1B01D858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6152FA-CFEB-4FA8-90E7-4152DA9A987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