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27759"/>
        <c:axId val="55532448"/>
      </c:barChart>
      <c:catAx>
        <c:axId val="92927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2448"/>
        <c:crosses val="autoZero"/>
        <c:auto val="1"/>
        <c:lblAlgn val="ctr"/>
        <c:lblOffset val="100"/>
        <c:noMultiLvlLbl val="0"/>
      </c:catAx>
      <c:valAx>
        <c:axId val="55532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7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927-1FCE-4076-A2DF-5FB03E1F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E8A-B78B-4391-8E8B-56081EE3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739-CFC5-4289-9FF1-CEC2D522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F91-66DB-42A0-8C7A-2905F538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A90-C5FB-48B3-9462-5B114624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8B7-FE7E-45B3-8195-1CFF732C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5B7-BE13-44A8-9250-7A8AF0C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F10-F3A2-4268-8FD6-E9C668C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6A1-18E1-4DFB-84DB-2CF9CA32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A35-BA72-442E-B0B1-8422CCD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AD0-AAD1-45EF-A4B6-1374F25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1CD-B9FE-48E9-BB67-2D6561EA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202A3-AFD5-4EA1-8592-D6D4D499EA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