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73078"/>
        <c:axId val="21857833"/>
      </c:barChart>
      <c:catAx>
        <c:axId val="92273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57833"/>
        <c:crosses val="autoZero"/>
        <c:auto val="1"/>
        <c:lblAlgn val="ctr"/>
        <c:lblOffset val="100"/>
        <c:noMultiLvlLbl val="0"/>
      </c:catAx>
      <c:valAx>
        <c:axId val="21857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73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4CF-2744-4683-B4BE-325423BA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2FB-BEFC-4056-B92E-E5D7DEC9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F4E-F7AA-4B9C-B816-E0846ADF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50E-7417-4B3B-ABB5-9E4B84ED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831-613C-4B0A-8C5C-C9407CFB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32E-B3E0-412C-B96D-44F05256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C32-DB48-494E-8AF9-46A0957E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84C-B2A4-4394-BF3D-90BBCC9C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C4E-DFD2-4539-9F3D-5A315E07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229-BD68-4078-95A4-3B63A7BE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625-C120-4F2F-A0F3-BB7B88BD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680-D2F0-41F4-8AE3-48B3F653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1AE66-B10C-440D-89FC-4AE0264E56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