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873913"/>
        <c:axId val="19736886"/>
      </c:barChart>
      <c:catAx>
        <c:axId val="148739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36886"/>
        <c:crosses val="autoZero"/>
        <c:auto val="1"/>
        <c:lblAlgn val="ctr"/>
        <c:lblOffset val="100"/>
        <c:noMultiLvlLbl val="0"/>
      </c:catAx>
      <c:valAx>
        <c:axId val="197368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739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903-B22D-4C52-877A-E0F7B54B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2374-85CD-4CD9-9882-51AC5A4F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3FC5-CA45-41A2-B13C-991745D0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36A1-C2C6-471E-85B7-095F8D1A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6D22-92D1-41A3-BD37-7B749A3F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2DD5-118F-458A-A20B-C1B5CB4B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D431-FD39-4C33-A804-19EF8A74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51EC-F3D8-4FB6-BBC5-D0D1904F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F508-A2CD-45A9-B98D-DB402302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B91B-B384-422C-B7E1-82B80698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F869-DC15-49C1-AAB8-BF2916EB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B8F4-05F8-4BBB-BD2B-43431428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AFEC9-F112-496F-9178-12DCBEE218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