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363007"/>
        <c:axId val="79157218"/>
      </c:barChart>
      <c:catAx>
        <c:axId val="70363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57218"/>
        <c:crosses val="autoZero"/>
        <c:auto val="1"/>
        <c:lblAlgn val="ctr"/>
        <c:lblOffset val="100"/>
        <c:noMultiLvlLbl val="0"/>
      </c:catAx>
      <c:valAx>
        <c:axId val="79157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63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F842-A208-45E7-8A1E-E16E2940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B4A-68B7-4A0A-A176-E978D239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F14-DED6-431D-B655-E3A9F747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06E6-F373-4BFE-B563-DB502133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946-76BC-45FA-A95D-F69285F8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BD1-E3A5-496D-9036-CC2DDFFB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6A4-E1F7-40AB-8647-F1EAD44E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F42-270E-4EB1-8A13-4E5FA440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378-A2F3-4AAF-8031-D80E4A8B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8A2-1F73-4436-BF15-EC43E61E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2DA-536F-4D09-840D-FAAC5359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240A-660D-4C17-AFA6-E9A6C96E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A551E-7B7C-4CC0-BE9B-DA7369BA62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