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049"/>
        <c:axId val="27784500"/>
      </c:barChart>
      <c:catAx>
        <c:axId val="235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84500"/>
        <c:crosses val="autoZero"/>
        <c:auto val="1"/>
        <c:lblAlgn val="ctr"/>
        <c:lblOffset val="100"/>
        <c:noMultiLvlLbl val="0"/>
      </c:catAx>
      <c:valAx>
        <c:axId val="277845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9F3-3C71-4FED-BE59-817B1789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FE2-87B3-4709-B45D-525A1124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F01-44C6-4EF3-BF06-4589E7D9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D9B3-E0B5-46BC-AECE-20249E84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46D5-2268-43FE-AB2D-6FA51AEB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DFE-6366-4375-B20B-CB99ACF5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68C0-7F09-4D10-92A5-B8E5AC8B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0AA0-A560-4925-856D-CD82F1DB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8A2D-571E-4608-B235-051A678B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3D6-67CE-408D-B322-ECB1ECB9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5C97-1FBD-436F-A9B0-B4ADB95A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0D2-EAE2-4408-8DE1-52027897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6F977-A513-40F9-AA50-AC1D257F1D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