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63392"/>
        <c:axId val="18967704"/>
      </c:barChart>
      <c:catAx>
        <c:axId val="938633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67704"/>
        <c:crosses val="autoZero"/>
        <c:auto val="1"/>
        <c:lblAlgn val="ctr"/>
        <c:lblOffset val="100"/>
        <c:noMultiLvlLbl val="0"/>
      </c:catAx>
      <c:valAx>
        <c:axId val="189677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633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DB2-7A3C-41A5-B75E-D6431378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571-A223-4684-A6A0-76AE4D9F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CB21-77C0-4669-9C20-9769E062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43C-97B8-4F44-80B4-C727C25F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ACF7-24EE-4D3F-89B4-8D48B57C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D8B-597C-4676-9A65-61274BDD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140-E474-4ABB-9242-D7AEF494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C04-AA50-4795-870A-E179BAB2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C9A2-F2F1-4894-9AA7-B52579C6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06F-1A7A-4378-A23A-25AA3D87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EA6B-C7BC-4A70-907D-721DF08B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525-2B85-450C-85EF-39584671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9D73C-3979-4152-8884-632179903E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