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58597"/>
        <c:axId val="69344940"/>
      </c:barChart>
      <c:catAx>
        <c:axId val="74758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44940"/>
        <c:crosses val="autoZero"/>
        <c:auto val="1"/>
        <c:lblAlgn val="ctr"/>
        <c:lblOffset val="100"/>
        <c:noMultiLvlLbl val="0"/>
      </c:catAx>
      <c:valAx>
        <c:axId val="69344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58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4AA-CFA7-4CB5-AD43-AE70467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2B0-890A-40BB-AD14-E0DD29C5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219-D7EB-4367-88B9-F70E06A0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5C5-4265-4BE2-A843-1A3A33B7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6F1-BCBA-4F07-B14C-F9E84881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605-4F4E-4992-B376-564C7C1C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67F-1455-458C-9434-99AA90BF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8AD-DCF8-4551-8561-6A347C80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D54-48FF-4A27-858D-828D58B1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5BE-3826-457F-B873-881771C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094-E4FA-410D-A47F-778BE9A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6D3-081E-425F-8DAB-37FFF0F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B2109-7386-48EC-9A59-C37CBC7840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