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86474"/>
        <c:axId val="255327"/>
      </c:barChart>
      <c:catAx>
        <c:axId val="20786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27"/>
        <c:crosses val="autoZero"/>
        <c:auto val="1"/>
        <c:lblAlgn val="ctr"/>
        <c:lblOffset val="100"/>
        <c:noMultiLvlLbl val="0"/>
      </c:catAx>
      <c:valAx>
        <c:axId val="255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6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67B-D87E-4717-8BF9-B255187F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230-C338-4E3F-A5C6-619C9C7E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541-35EA-4142-8A4C-8D1CAB88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CF9-DE0B-497D-AB17-45FF5762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B76-BC0B-48A7-A200-43DB6C76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E19-035B-43E6-AEE1-92D14F6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DBA-B166-4D48-AF40-E643FAD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2D6-33D6-48F2-85ED-17BEEEF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EE1-284E-484C-8A73-DB1B505A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2B0-D0DF-4FF5-AF6C-04023C4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030-72EF-44CE-9E5A-EC7985B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68C-ACBA-4077-9611-A1F0B93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BA0B-C3CC-43DD-A90A-4B686E59E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