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060610"/>
        <c:axId val="26329759"/>
      </c:barChart>
      <c:catAx>
        <c:axId val="500606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29759"/>
        <c:crosses val="autoZero"/>
        <c:auto val="1"/>
        <c:lblAlgn val="ctr"/>
        <c:lblOffset val="100"/>
        <c:noMultiLvlLbl val="0"/>
      </c:catAx>
      <c:valAx>
        <c:axId val="263297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606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C82F-B679-4D01-8AA9-FF1B77AA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814D-FCC2-4A57-9218-7309EE10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5B9F-DD01-4615-B0A6-2986E23E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7689-5D54-47A4-BFF4-990ACE95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8717-C9E1-4C9F-BF15-BD8EF867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3B16-876C-47D3-ACD6-697D8B14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167-87F9-4AE1-A3CD-9714C726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639C-985A-4C28-9BDE-22DF04D5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82CB-A886-4052-BDA3-6A447C73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37AD-260A-41DD-BA4B-20AE82DB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51B5-FD5B-41BB-A880-980FC84B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482C-0922-431C-A29D-F8044973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9F87B-A906-4BA7-A3F2-0FE299E09B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