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06931"/>
        <c:axId val="40588312"/>
      </c:barChart>
      <c:catAx>
        <c:axId val="67606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88312"/>
        <c:crosses val="autoZero"/>
        <c:auto val="1"/>
        <c:lblAlgn val="ctr"/>
        <c:lblOffset val="100"/>
        <c:noMultiLvlLbl val="0"/>
      </c:catAx>
      <c:valAx>
        <c:axId val="40588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6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BB3-6070-4631-A47D-47C931F5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AE4-30F0-426E-A819-71F1181E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89-D131-48D5-AE39-3B232F6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AFA-119B-4EF7-8756-6081B9C9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84A-4623-46C8-8C71-E773C54F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50D-E942-4B02-9E87-A53DE7D0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7F5-3468-4019-959C-C74DEDF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9FE-6C60-4152-880A-36657085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DD0-1E6C-401E-AF9B-1321959E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E80-EC3C-4C7E-8596-E9D7F0A1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A00-DEFE-432F-946C-1F28846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FA5-7D17-4919-8CC6-0BECAC7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00F3-41F4-4806-AE30-DAB600A698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