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366330"/>
        <c:axId val="89749300"/>
      </c:barChart>
      <c:catAx>
        <c:axId val="403663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749300"/>
        <c:crosses val="autoZero"/>
        <c:auto val="1"/>
        <c:lblAlgn val="ctr"/>
        <c:lblOffset val="100"/>
        <c:noMultiLvlLbl val="0"/>
      </c:catAx>
      <c:valAx>
        <c:axId val="897493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3663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CC96-EA85-4A80-A082-4B352DC10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7F17-07F8-4D78-AE28-DA533465F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9361-5A96-4E38-8E57-673A5E198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3177-B445-4DE0-84A2-D3FB6D3E9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17A5-2EC9-4327-9CF9-330E548A7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968D-B725-4F0E-9FF7-9DD8FCDE4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6D5D-EAA5-41D2-8208-BF9623923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6746-30F7-45BF-BD4C-0DF2C92A4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6AFC-3A2A-4E5C-9CB8-718E477BA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487C-0F66-4190-8092-2A9859B07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1B33-EF08-420E-BBDB-89BCB172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48CA-D732-468E-81F9-D12D69C4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991A6C-8D2B-4B6C-A8F4-963474C3E03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