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90765"/>
        <c:axId val="60095676"/>
      </c:barChart>
      <c:catAx>
        <c:axId val="34890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95676"/>
        <c:crosses val="autoZero"/>
        <c:auto val="1"/>
        <c:lblAlgn val="ctr"/>
        <c:lblOffset val="100"/>
        <c:noMultiLvlLbl val="0"/>
      </c:catAx>
      <c:valAx>
        <c:axId val="60095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90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16F-D755-4FC1-A01E-3F4E21CF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CF5-B920-42E2-8E20-57F739A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A6A-41E1-4188-AC1B-46B51F3E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E72-5471-4BFC-90C4-D5054111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DA8-172E-4960-85DD-0478E0E2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79F-F52A-4CFB-BE79-49F6C9EB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931-6794-4679-8B2B-1D1E8CA0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136-0B90-4D74-AD3C-C1A7A764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5DF-5163-4CCF-B33E-97FC323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D53-4613-4591-BA45-4E683F5E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940-F102-4021-B18E-6960091D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16C-DC18-493C-8656-0FEA5AFC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BE9AA-0755-4FB6-B3DF-6FBDAFE7FC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