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69056"/>
        <c:axId val="93457993"/>
      </c:barChart>
      <c:catAx>
        <c:axId val="55469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57993"/>
        <c:crosses val="autoZero"/>
        <c:auto val="1"/>
        <c:lblAlgn val="ctr"/>
        <c:lblOffset val="100"/>
        <c:noMultiLvlLbl val="0"/>
      </c:catAx>
      <c:valAx>
        <c:axId val="93457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69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DA5-2935-4932-9EFA-1425F809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E73-C988-427A-B19E-7EA91357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1C8-3F3D-43F3-B3E4-C8A1E1DC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8E3-2E2A-4EF3-AB4E-840C6B3D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51A-03C8-4458-83EC-139D353E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668-4B4B-4EC7-ABCF-2FAA06B3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D5F-F739-43FA-A458-4C517993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115-4063-47CA-83FD-D7FE4632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DAE-F60B-4EC8-B8ED-852362EE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D50-0DD4-404D-88FA-3CCA59A2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C58-1617-42FD-9B64-87EC1E1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9D3-EE1D-4E6A-B57B-ABC59AB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34A92-E838-46A8-8A28-AF692BCE3C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