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16297"/>
        <c:axId val="66922601"/>
      </c:barChart>
      <c:catAx>
        <c:axId val="30516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22601"/>
        <c:crosses val="autoZero"/>
        <c:auto val="1"/>
        <c:lblAlgn val="ctr"/>
        <c:lblOffset val="100"/>
        <c:noMultiLvlLbl val="0"/>
      </c:catAx>
      <c:valAx>
        <c:axId val="66922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16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BBD-F009-41F3-98A6-D3E1A454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19E-7F47-458E-84B7-7700462F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C24-D0D0-49C3-A5F1-D0B048C9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F4A-DFA1-4CD3-AAD3-0AB1487B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5F9-1467-4C75-A7A6-C8D57DFA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10D-5F72-4F60-8414-76F26CEF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D68-1245-4D71-9186-4B4E370D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383-2777-498F-8B9D-95479625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1B3-AEF4-4F0E-883A-3DE1ECAA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0F6-1B1F-4270-B96C-4BFA2ADC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6D5-DAFC-4197-BCDF-2060904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3CA-7B18-468A-8042-538E38FF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C7DA7-CFB7-4D1D-819C-4DB2AC7863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