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47643"/>
        <c:axId val="29797030"/>
      </c:barChart>
      <c:catAx>
        <c:axId val="57747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7030"/>
        <c:crosses val="autoZero"/>
        <c:auto val="1"/>
        <c:lblAlgn val="ctr"/>
        <c:lblOffset val="100"/>
        <c:noMultiLvlLbl val="0"/>
      </c:catAx>
      <c:valAx>
        <c:axId val="29797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47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553-BC12-4232-808F-4187142C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DAE-D262-4512-A3CA-8C09530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612-DA84-4D36-9ECC-7246C5F4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898-B7D6-4DC9-8955-48C586B2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96D-A888-43E0-B49B-8AC4CEC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2C2-D153-4047-8F47-54AD4055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3BF-C6D9-4047-802F-E648230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479-B05A-4ADC-80CB-EC70F93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935-051A-4EB7-8DDA-883A403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FC8-E341-4A7B-8105-327982F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379-1C25-476A-82B5-C0BA253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F0E-37C3-4609-99AB-74A0A7F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52CBE-2FCC-47AD-9A22-A75ADF59AF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