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36859"/>
        <c:axId val="56529555"/>
      </c:barChart>
      <c:catAx>
        <c:axId val="7143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29555"/>
        <c:crosses val="autoZero"/>
        <c:auto val="1"/>
        <c:lblAlgn val="ctr"/>
        <c:lblOffset val="100"/>
        <c:noMultiLvlLbl val="0"/>
      </c:catAx>
      <c:valAx>
        <c:axId val="56529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43E-CEA0-44A7-9820-BD806467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126-298F-4D6E-B41B-9FE2D61C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13B-BCDE-4648-AF38-584416C6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015-ADCC-481C-AE1E-C68995BD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4F1-4A61-45D6-96E7-1878AB3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E50-7E52-4FD4-9828-686F4EB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CCE-DAF6-4D42-91E1-FD3C4F2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84A-A68A-4DDE-9310-F251F71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717-30DD-45A6-9E02-8D73949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D39-266E-4370-AD4D-C241430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5BF-67FD-4DB1-9C6B-BFEDB96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02E-B2A2-4831-9275-317DCD63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3D2A-DD85-4D39-8546-ECEF1F1C95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