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00600"/>
        <c:axId val="8702285"/>
      </c:barChart>
      <c:catAx>
        <c:axId val="30300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2285"/>
        <c:crosses val="autoZero"/>
        <c:auto val="1"/>
        <c:lblAlgn val="ctr"/>
        <c:lblOffset val="100"/>
        <c:noMultiLvlLbl val="0"/>
      </c:catAx>
      <c:valAx>
        <c:axId val="8702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00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DB6-5BE5-4F10-9BBD-06AD376E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43B-F316-41E2-908A-88E9DDB5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AFB-B067-42AD-BFC5-7A3D33D3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960-2978-4B9D-9BE3-4BD5F901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E13-5C4E-4EA2-867E-9119613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315-36C6-4698-81DA-DE4FD584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064-405E-4161-A7AF-6CBC188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32C-F6A1-46D2-9241-68B5C6FF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0E3-628C-4D41-8DC2-73247D74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36E-FB7A-4AA2-882C-4B73B38F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BCD-0594-42C8-B672-F08462E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8E6-3218-4823-9284-114704C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D0A9E-2B6A-49F1-93A2-16F5027985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