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731465"/>
        <c:axId val="68502108"/>
      </c:barChart>
      <c:catAx>
        <c:axId val="167314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02108"/>
        <c:crosses val="autoZero"/>
        <c:auto val="1"/>
        <c:lblAlgn val="ctr"/>
        <c:lblOffset val="100"/>
        <c:noMultiLvlLbl val="0"/>
      </c:catAx>
      <c:valAx>
        <c:axId val="685021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314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C024-3D58-4DCA-A3A4-FEE265AF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524C-EAFF-4620-AEC1-BB72F2C7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8983-8A21-406B-989A-123D8627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44AF-75FA-413A-8448-0282DFE8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A91D-3280-4950-99F9-F90969F2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0EBB-E236-4A1A-BE73-8D062C69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2F7-4CFC-49F9-889D-0A3D5C94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D09-3AD7-441F-B4D9-2C75D998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0C4C-62FF-4A6B-945D-CD5DF0D5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A493-3032-4CFC-9AE5-B9343AF1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698-EDC8-41E5-A27D-E8A6DF88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6B7C-F879-424F-9D6B-ED37915F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039E4-4C53-423A-A7D0-386067A2F8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