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556494"/>
        <c:axId val="25220136"/>
      </c:barChart>
      <c:catAx>
        <c:axId val="57556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20136"/>
        <c:crosses val="autoZero"/>
        <c:auto val="1"/>
        <c:lblAlgn val="ctr"/>
        <c:lblOffset val="100"/>
        <c:noMultiLvlLbl val="0"/>
      </c:catAx>
      <c:valAx>
        <c:axId val="25220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56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6A7-5CA2-4D44-86B2-4594FA4B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07CF-3C5E-4040-88F5-7B259D5E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12A-A61A-4CAA-A4DF-28E6DB25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900-51D5-48D9-BB44-F84BBE72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607D-E534-4582-A10D-E5C23C6E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AF29-CDE3-44E6-B524-54968771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6C3A-AB20-423C-B891-A69E2D61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7ED2-0386-464E-99D6-87FCA908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0F26-4505-4493-B787-663446D7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3D47-6496-4597-85E8-B88A46ED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FA2-DF09-47B7-8B9D-DD2B8354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8E3-0659-4B91-800E-D0C52046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6A29C-0DED-4E18-82D8-D0F9082044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