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89300"/>
        <c:axId val="21359847"/>
      </c:barChart>
      <c:catAx>
        <c:axId val="601893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59847"/>
        <c:crosses val="autoZero"/>
        <c:auto val="1"/>
        <c:lblAlgn val="ctr"/>
        <c:lblOffset val="100"/>
        <c:noMultiLvlLbl val="0"/>
      </c:catAx>
      <c:valAx>
        <c:axId val="213598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893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0FCB-3F5C-4986-88D8-C12638DB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9D6-D464-480F-A058-81CA1E3C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CA58-2DD1-411C-A79D-7CC11BAE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D01-EE50-4F8F-B8AE-DE8FDCA9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94CF-6FCD-483E-B944-196EDEC9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F0B-72F4-4097-8ABB-56BA0E06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D8C6-C41C-4FE4-8C91-AC3FD5F0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981-44F6-4560-842D-E504E5F0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F85-DF6B-485D-AABB-3B488180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4C5-5DBD-468C-8F57-AECAA5C1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C68-9C8E-407D-9AEF-79870D73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36E-B8A6-4306-8578-95472B8A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36257-DFDC-4CA6-BE9D-2A42E375DCB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