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06513"/>
        <c:axId val="67261525"/>
      </c:barChart>
      <c:catAx>
        <c:axId val="38406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61525"/>
        <c:crosses val="autoZero"/>
        <c:auto val="1"/>
        <c:lblAlgn val="ctr"/>
        <c:lblOffset val="100"/>
        <c:noMultiLvlLbl val="0"/>
      </c:catAx>
      <c:valAx>
        <c:axId val="67261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06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21E-1F59-4657-B90C-BE13CC92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8FD-FC2B-4471-AE69-6D04E902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DE2-D802-40C5-AD9A-0363850F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643-A0D5-4AE5-9372-C83636D2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67D-10E7-4D1A-9921-8B79C46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BC3-C3FE-4E1A-8AF7-AAD6A85D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E72-BF5D-41DF-9E39-1F581151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5F1-B844-4B5E-B34A-12F1A77A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4CE-D5CE-4208-9067-09139BC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DBD-D462-4773-BB81-B10FF947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90F-1281-4835-8452-F30D810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3B8-1C96-4E2D-81D1-AAFEB73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DF147-C741-42BD-9B47-0AF8AD1552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