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44837"/>
        <c:axId val="94726079"/>
      </c:barChart>
      <c:catAx>
        <c:axId val="79244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6079"/>
        <c:crosses val="autoZero"/>
        <c:auto val="1"/>
        <c:lblAlgn val="ctr"/>
        <c:lblOffset val="100"/>
        <c:noMultiLvlLbl val="0"/>
      </c:catAx>
      <c:valAx>
        <c:axId val="94726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4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76C-7306-43F9-ACE9-B6D60820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7CC-9FF0-4984-9FB0-4B26CE39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93F-7FE2-4792-B693-A74F6EDF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687-6BD1-4EE9-9FD5-BDF1AC52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877-5649-4C69-BAC8-C262CF40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679-42CB-4382-8E63-39C72167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6BE-1AA9-4A5B-BEB1-B18006CF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4E0-7FD9-4CD3-AB31-5DC3F8AD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C8D-3645-47C0-9C2F-B3E4D05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556-619D-4B81-B749-AA51AB6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BEA-6445-4348-B8B7-0DB04AF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E18-462A-44CC-B8D0-104F6C1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2B09B-0041-480A-BE6B-D72AFD582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