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57507"/>
        <c:axId val="4357203"/>
      </c:barChart>
      <c:catAx>
        <c:axId val="48457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7203"/>
        <c:crosses val="autoZero"/>
        <c:auto val="1"/>
        <c:lblAlgn val="ctr"/>
        <c:lblOffset val="100"/>
        <c:noMultiLvlLbl val="0"/>
      </c:catAx>
      <c:valAx>
        <c:axId val="4357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57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014-C823-411E-8E3F-D6312BC1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5A4-9DB5-4C84-B3ED-A132C471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942-26CB-40C1-8E47-23EC2C42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659-107A-4645-9398-FB541FCC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635-1236-4EB7-878F-353412E3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57C-CF8F-4E38-87C7-E3A20DF6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62B3-D1EE-462F-A9DA-95EB4C47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142-6E37-4BB4-BEF5-08B5973A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278-F41C-4D28-B3A0-6BD6FDF0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095-7EA0-4AF8-80C1-99B95A14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2EE-5F25-43D2-9998-E2904E50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A01-1B97-4862-92CE-AD794DC4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645E1-72E8-49AD-A828-08EF134C27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