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58215"/>
        <c:axId val="40990107"/>
      </c:barChart>
      <c:catAx>
        <c:axId val="66558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90107"/>
        <c:crosses val="autoZero"/>
        <c:auto val="1"/>
        <c:lblAlgn val="ctr"/>
        <c:lblOffset val="100"/>
        <c:noMultiLvlLbl val="0"/>
      </c:catAx>
      <c:valAx>
        <c:axId val="409901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58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74B3-92A0-4034-9892-D42221D4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5832-C789-4EC9-B30D-8D641A23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D35-2840-41E6-A9E0-3C7EA629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59D2-90ED-4DD8-81D7-AA789C3E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3D65-CFAE-42FC-AE58-A0FC0298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B764-59D3-4134-8555-85957384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68B4-35C9-4D58-A3F8-966A4BB8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7D7-49E8-459B-8087-49C9A0CC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566-0C06-4EF8-A8CA-476F225F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480-5472-4E72-B972-CE28B2AD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890E-B91C-450E-A667-9A2AE879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212C-04B8-45E5-A2BE-45FCD664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075F7-624E-47B0-ACFA-366D1CE53A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