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99143"/>
        <c:axId val="72708268"/>
      </c:barChart>
      <c:catAx>
        <c:axId val="740991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08268"/>
        <c:crosses val="autoZero"/>
        <c:auto val="1"/>
        <c:lblAlgn val="ctr"/>
        <c:lblOffset val="100"/>
        <c:noMultiLvlLbl val="0"/>
      </c:catAx>
      <c:valAx>
        <c:axId val="727082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991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9C73-11FC-425D-A2F1-B5308441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71E-F513-4274-A20C-DB3BF83A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448-886A-4344-A5A1-AB264ED8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936-7016-4351-8F24-0DF7C012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E42-DC29-4D19-9875-7CC6611A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6133-4885-4ECD-B7E4-3F45C0D2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F8E0-4278-4F6B-AC64-69A99EF9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A52-E241-41F0-B69B-B8225BDF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D6F-EFAD-4473-8E49-05BE17A1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6189-7248-4B6E-9231-6810D3D8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7D7-D850-4727-A8B8-E1652F1D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2A86-3B6C-4A61-AF05-F1359875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890CB-CF01-45D7-9F30-02E0334EB5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