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92642"/>
        <c:axId val="32614538"/>
      </c:barChart>
      <c:catAx>
        <c:axId val="73192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14538"/>
        <c:crosses val="autoZero"/>
        <c:auto val="1"/>
        <c:lblAlgn val="ctr"/>
        <c:lblOffset val="100"/>
        <c:noMultiLvlLbl val="0"/>
      </c:catAx>
      <c:valAx>
        <c:axId val="32614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92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1F8-216C-4699-9B83-CEB5B729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269-2869-4BEC-8F4F-EE6C05FB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88A-CC9C-4336-8F17-04087F0A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6B1-DB37-4E83-9093-D2CD63DA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CC3-9796-4D87-9B2D-F5A9D566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FC2-BE22-4E03-ACED-3537E76C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1C7-3FCA-4451-A62C-5818BCF0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053-58BD-4684-B1E1-2CD9B2E0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8D1-C577-4812-A3B2-CD364207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BFB-BAB6-47D3-B33F-03F9EB9A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6FA-7657-4873-9918-5CC3CED8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4C1-A97F-4524-96CC-42786525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7EA6E-EA34-4191-BFEC-2CD569E7A3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