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28768"/>
        <c:axId val="84749919"/>
      </c:barChart>
      <c:catAx>
        <c:axId val="58628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49919"/>
        <c:crosses val="autoZero"/>
        <c:auto val="1"/>
        <c:lblAlgn val="ctr"/>
        <c:lblOffset val="100"/>
        <c:noMultiLvlLbl val="0"/>
      </c:catAx>
      <c:valAx>
        <c:axId val="8474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28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1B4-14B3-4DC4-B95B-22B912C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2C6-EB01-456C-81EC-EB4F397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1CC-F0C3-4405-9F4C-963D064C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306-6961-475F-9FAA-29026719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0DA-3C37-4137-A086-F7FB7CB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EA8-6191-44C5-B16C-FB16EE2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3EB-AEBA-4427-93A7-B1814463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414-10B3-4675-A539-C4B03F5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CF8-4523-40BA-BA07-CB6A659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4DA-3A4A-484B-8339-4CA3FB7A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ECB-76CD-4422-AEB0-1364732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943-0F7E-4281-93DC-2EB796C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4C617-4591-4B2F-9BDD-4940E3A60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