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377030"/>
        <c:axId val="65490095"/>
      </c:barChart>
      <c:catAx>
        <c:axId val="563770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490095"/>
        <c:crosses val="autoZero"/>
        <c:auto val="1"/>
        <c:lblAlgn val="ctr"/>
        <c:lblOffset val="100"/>
        <c:noMultiLvlLbl val="0"/>
      </c:catAx>
      <c:valAx>
        <c:axId val="654900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3770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7C3F-5398-46E7-A45D-BF209EF6A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CA76-923B-476B-B21A-912542F58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78D3-83AA-4D6F-9A7A-0D6A71B79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B70F-9C47-4098-87DF-025D4C0A9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99C5-D98B-4C62-AED2-1C53FAE70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4835-3A6F-4C7C-8A73-40A318DC6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F91F-680A-4B3F-AB68-E5D1DA1D4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D7C0-1574-4004-BBC7-AB2ABA856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93D6-936E-425B-A728-85C49B644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B463-3B4C-4101-9E58-1DDEABBE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F205-BA10-48D5-ACF2-BFB1E55C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7B5E-C8F2-479C-BB63-7A203AC4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2367C5-8B2A-4B9D-8141-FD7C6024098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