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09602"/>
        <c:axId val="17845087"/>
      </c:barChart>
      <c:catAx>
        <c:axId val="35609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45087"/>
        <c:crosses val="autoZero"/>
        <c:auto val="1"/>
        <c:lblAlgn val="ctr"/>
        <c:lblOffset val="100"/>
        <c:noMultiLvlLbl val="0"/>
      </c:catAx>
      <c:valAx>
        <c:axId val="17845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09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0DB-D52D-4432-8C34-0B968B6E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B36F-3917-48DA-987F-232F2D59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20C-C8D1-4518-8299-5A610B7B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E3F-16BE-485E-93BD-6EAFE8A0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C4B-FC90-4B4D-80D0-137DD97D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0FB-1F12-43CD-AAD5-11750DD5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78A-D63E-415F-911D-1BFA4932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D71-7046-4EB1-A867-A0375175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E95-F9F6-4CDE-B599-845F8EE0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A95-E3C4-42C9-994B-15F8974C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E72-093A-471A-BDB5-3C95E6A9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DB0A-08C6-4EB6-85B6-8BCD4D1A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C13AE-DA3A-4CA0-AE8F-3F7ECE5D82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