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69613"/>
        <c:axId val="43879625"/>
      </c:barChart>
      <c:catAx>
        <c:axId val="57469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79625"/>
        <c:crosses val="autoZero"/>
        <c:auto val="1"/>
        <c:lblAlgn val="ctr"/>
        <c:lblOffset val="100"/>
        <c:noMultiLvlLbl val="0"/>
      </c:catAx>
      <c:valAx>
        <c:axId val="43879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69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651-9FD6-4CED-A5D6-8BD74585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18D-D0CA-4B3F-A2D6-7CB3FE53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F86-66A5-4169-8AD5-CE666B8D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1B1-5968-48C3-BE38-0009E884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91D-C9F9-4601-897D-F9441C31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F45-31E5-45CB-9B5C-92D6F3C4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C3C-02A6-4DE6-A778-990C2D2B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DAD-ACBC-481F-98DD-96B04D02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E89-718F-4E5A-A590-87BE1B77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571-2055-416E-82CE-4ECC254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2F6-4461-4B9E-BC4E-4C32CB78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BE8-6629-464A-B6F5-1912FFB9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CA569-B62E-4AA1-92DE-40397F579D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