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48747"/>
        <c:axId val="40564446"/>
      </c:barChart>
      <c:catAx>
        <c:axId val="69148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64446"/>
        <c:crosses val="autoZero"/>
        <c:auto val="1"/>
        <c:lblAlgn val="ctr"/>
        <c:lblOffset val="100"/>
        <c:noMultiLvlLbl val="0"/>
      </c:catAx>
      <c:valAx>
        <c:axId val="40564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48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31F-2BA1-449D-9277-4E5E7FAB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18E-4A3A-4D79-A563-B8F7491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B4C-4FFE-4E04-B719-F39980B4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DF6-5095-461D-A3EF-54A203DC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1DA-2895-4BDA-A06A-4D9ED2F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B8E-F057-4557-9E5F-AEAE3CE4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CD-AD97-40BD-B6A1-B110B67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E83-538B-4193-9A5A-DE843EB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373-5022-4718-9737-E25FD82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25A-2341-4862-906E-D2DEAA8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582-A03C-48D5-8378-4A6EFF43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A2E-8845-4E35-893E-E0E548D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BFD31-84AB-4A1C-8A0F-ED13B99D9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