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06952"/>
        <c:axId val="28047952"/>
      </c:barChart>
      <c:catAx>
        <c:axId val="31006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7952"/>
        <c:crosses val="autoZero"/>
        <c:auto val="1"/>
        <c:lblAlgn val="ctr"/>
        <c:lblOffset val="100"/>
        <c:noMultiLvlLbl val="0"/>
      </c:catAx>
      <c:valAx>
        <c:axId val="28047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06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161-1F41-4CA6-8486-9E7AD86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6F1-188B-4373-BFF8-65EED93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EC1-9851-4CAF-A3EB-DAE7886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217-984C-4E16-B2E2-F5D6A0C3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870-E06D-4B8A-8D50-C304366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B94-8CE2-4859-A05D-649B831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400-7916-4845-96B0-2B7BEC0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3FB-F6BD-4FA5-A87B-634F7425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53A-10D7-4423-9F4C-86FC719A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E3E-6FD4-4189-98AC-FFEAAD0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D81-4C2C-4CE3-85D5-65062AC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5C4-8C4C-468F-B121-512CC88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190D9-3374-44FD-903E-F541B3C4E7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