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30870"/>
        <c:axId val="86999351"/>
      </c:barChart>
      <c:catAx>
        <c:axId val="14830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99351"/>
        <c:crosses val="autoZero"/>
        <c:auto val="1"/>
        <c:lblAlgn val="ctr"/>
        <c:lblOffset val="100"/>
        <c:noMultiLvlLbl val="0"/>
      </c:catAx>
      <c:valAx>
        <c:axId val="86999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30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97E-D1F3-44FF-9596-A7325803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9F4-10C9-4F0B-BE24-74070B94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13B-E46B-4C7E-A534-3AA96DC1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3D6-550E-4243-913E-02A549F0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F8B-A5BF-40C0-AEDE-679E8B0A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8D3-743F-4B00-84D9-F436DCC7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9D8-4511-4EF0-BEFD-15D538EC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EAD-5652-424A-A898-E83758CF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696-184A-4D24-8A34-092149BC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413-140D-451D-B790-9E1D79A1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5E4-F408-427B-ABF7-81BE5D33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F76-619D-4F7E-B9CA-193E6F3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859D8-73B6-4464-A641-563F903ED8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