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09125"/>
        <c:axId val="88395081"/>
      </c:barChart>
      <c:catAx>
        <c:axId val="96709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5081"/>
        <c:crosses val="autoZero"/>
        <c:auto val="1"/>
        <c:lblAlgn val="ctr"/>
        <c:lblOffset val="100"/>
        <c:noMultiLvlLbl val="0"/>
      </c:catAx>
      <c:valAx>
        <c:axId val="88395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09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7DE-750A-44BE-BDCF-B44EA506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F6B-DB4F-44D4-A829-E4E4CE4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3B6-4530-4C3C-8263-E0C8F493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038-4D79-4DEA-A879-44A352C5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6E8-5BFA-4FC9-B120-E451836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89F-7FF1-4FF3-B50F-CC26120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5E7-D8BC-42DD-9E90-FFE6E6F0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15B-CC30-44AC-873B-DF90F35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CA8-D15D-4743-980B-27D0BE4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E02-277A-4110-87EA-1B5A55C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1FF-8B22-4124-BF19-A611BD73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1AB-DFE4-4899-A05C-5BF653A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A438-76C8-4A06-9474-29720F6F35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