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33490"/>
        <c:axId val="58058763"/>
      </c:barChart>
      <c:catAx>
        <c:axId val="71533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58763"/>
        <c:crosses val="autoZero"/>
        <c:auto val="1"/>
        <c:lblAlgn val="ctr"/>
        <c:lblOffset val="100"/>
        <c:noMultiLvlLbl val="0"/>
      </c:catAx>
      <c:valAx>
        <c:axId val="58058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33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CA6-D401-4C99-9186-E146CF0E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B9F-24BE-442C-B6EC-A2B2DF45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55C-ACF1-4A2E-B5DD-C929CBE5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ACC-7F6E-42DA-B394-D64E9C20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C91-5CF9-46B2-A03F-D684C2CE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9C0-993D-4F42-8523-8E2D3F07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AC7-9F27-4BB3-A639-25F17D81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917-9AB3-4F73-9F42-35C01E59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2B0-6E35-47D5-8179-1E7D2E7B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82A-5877-4809-A30A-8E40E80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A3C-9981-4D80-8BFA-5FC260E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D65-4BCC-48AC-8055-A0B20738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05472-E16C-4EE6-9B8C-C3D86D22B7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