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559885"/>
        <c:axId val="99706470"/>
      </c:barChart>
      <c:catAx>
        <c:axId val="675598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706470"/>
        <c:crosses val="autoZero"/>
        <c:auto val="1"/>
        <c:lblAlgn val="ctr"/>
        <c:lblOffset val="100"/>
        <c:noMultiLvlLbl val="0"/>
      </c:catAx>
      <c:valAx>
        <c:axId val="997064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5598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51FF-6BF1-4083-AB5F-890975BD1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4577-2676-459D-B395-9C960547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D940-70E7-4760-B30B-B711A1826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CC1F-591D-4882-8980-168DC926C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8262-7954-4F88-95B4-4B1ED763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9D8C-8C88-4822-AF99-8F5AEFB1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0813-2995-40CC-8420-A13B135A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D4B4-C9E6-445F-A15A-F78AC74A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49A6-2A94-4243-B702-674ED711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F399-0F81-4A64-A577-76E7E418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5CE8-F19B-4B90-A46E-B0088A9D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034A-67AE-46E2-B5E4-22BBC67D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B7A044-7BB9-4006-AA5E-3D3D3EDFDE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