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150"/>
        <c:axId val="96273702"/>
      </c:barChart>
      <c:catAx>
        <c:axId val="303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3702"/>
        <c:crosses val="autoZero"/>
        <c:auto val="1"/>
        <c:lblAlgn val="ctr"/>
        <c:lblOffset val="100"/>
        <c:noMultiLvlLbl val="0"/>
      </c:catAx>
      <c:valAx>
        <c:axId val="96273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260-C498-4071-AADA-F64CD43A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260-4502-4950-91AC-45321F7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5F3-AE72-43E3-AC48-B7301136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586-3580-4EBE-8FE5-B2BD5D81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6B7-7644-4B3E-AF36-C6F03311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023-3B7E-40B7-80EA-A91CD26C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BFA-9C3A-47EA-A295-2DCF333D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9B1-AB7D-4810-8DE3-A2C03F2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32D-EC00-4C6E-8628-8B86C77A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2AA-C973-4B62-AC17-B9CA897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6FB-4381-4254-BFF4-8F75217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DCE-C74F-45AB-82FA-3B3A5BE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BD79D-F679-47B2-AB84-1CF6182F0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