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4671"/>
        <c:axId val="31508368"/>
      </c:barChart>
      <c:catAx>
        <c:axId val="4634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08368"/>
        <c:crosses val="autoZero"/>
        <c:auto val="1"/>
        <c:lblAlgn val="ctr"/>
        <c:lblOffset val="100"/>
        <c:noMultiLvlLbl val="0"/>
      </c:catAx>
      <c:valAx>
        <c:axId val="31508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4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CF7-FC20-4D42-AFDC-25B8447A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C2E-B0DA-4505-A758-98954BE3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34A-FB4A-4B7E-9F66-2F94ABEE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E1E-96E7-4870-9865-76564093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8A8-6010-4DB4-99CE-EF494C4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158-16BB-43CB-A211-9FF20500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994-3757-431E-9DCB-138D79C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AF7-D27F-4639-8EDE-538DA287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188-10EA-44E9-AB0E-AA201578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6C4-5108-467F-8CAE-BE510C64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610-FD5B-48E4-8643-24CF52B8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2B5-FFC7-4E0C-ACA1-6A3807DD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781DB-EB68-4F15-849C-7773DB168D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