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259169"/>
        <c:axId val="19701755"/>
      </c:barChart>
      <c:catAx>
        <c:axId val="382591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701755"/>
        <c:crosses val="autoZero"/>
        <c:auto val="1"/>
        <c:lblAlgn val="ctr"/>
        <c:lblOffset val="100"/>
        <c:noMultiLvlLbl val="0"/>
      </c:catAx>
      <c:valAx>
        <c:axId val="197017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2591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D473-DBD9-4DFA-A79E-24F407532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640E-DB22-40E0-A50D-F7C5D10F0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525B-3279-4554-9D3A-8986613A8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1E10-C840-42EF-BCE2-5E4442803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9E90-EF7F-414E-8791-BB0E8871B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636D-B136-45C9-A6C2-1C820A9FA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0DBE-A68C-43C9-B6ED-66A512B27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64EC-B5C9-4BE1-A8D0-FA0A5AE82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F67A-0552-434F-BC19-A03BCD3C1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EF48-0F8C-4116-94D5-A918AEF6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0E6A-D41C-4734-A0F4-3CA5568D9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4EB0-51C0-42A4-BBE8-447F7AA7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EE12C9-A1B1-470F-9DF1-F551A68FCAF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