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602550"/>
        <c:axId val="69417730"/>
      </c:barChart>
      <c:catAx>
        <c:axId val="406025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417730"/>
        <c:crosses val="autoZero"/>
        <c:auto val="1"/>
        <c:lblAlgn val="ctr"/>
        <c:lblOffset val="100"/>
        <c:noMultiLvlLbl val="0"/>
      </c:catAx>
      <c:valAx>
        <c:axId val="694177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6025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B245-9A83-4D35-85BB-2B8D6AF21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E301-B6F7-436A-8C59-11672787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BDE1-892A-40B4-A2B2-8597DC560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125E-D45C-49EF-AF74-D9F0B0EE6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47BF-9B92-45E5-89A0-AFF3AAEE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0DB1-ED90-4EEC-B01B-0DA8F085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32FA-CA89-4D61-BC64-0960A6CB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1946-C46A-4F14-A74D-5EA1478F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70FA-70A6-4E67-B213-44C8D85F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79FF-B534-470D-8BCF-F1C285D2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DD60-5887-44D6-9CDE-22F67AA4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9E09-9F53-40C9-90CB-E40540DB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84C79-11FE-4BC4-8D10-4C7BDE9A3E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