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054051"/>
        <c:axId val="24001257"/>
      </c:barChart>
      <c:catAx>
        <c:axId val="560540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01257"/>
        <c:crosses val="autoZero"/>
        <c:auto val="1"/>
        <c:lblAlgn val="ctr"/>
        <c:lblOffset val="100"/>
        <c:noMultiLvlLbl val="0"/>
      </c:catAx>
      <c:valAx>
        <c:axId val="24001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540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29A-F806-46BD-9097-0F33E1FD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96E8-0FBC-4066-8577-31DC56DD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E14B-0B66-4733-A1E9-93858223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DB4-30D2-4C1F-B1C3-6AD2E1CF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FEB-E6D8-444A-8C66-C2F7D540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44D-F290-4B92-9670-7E4CD6A1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E01-CADA-4514-98AD-B6D99B0B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9217-EEF2-45EB-BD9A-A1E03A49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E437-BCC5-4D09-927F-BF0EDF97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860E-67E4-45EC-B33E-0ADBA3B1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CD1F-58DF-4526-A559-EC2C4C82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18F8-C1CE-4237-B9A3-9171D47F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C80D4-E8EA-4EFF-BB03-202E5FA6DC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